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DC5-E361-4CE3-8058-AA650CAA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377-E5D2-4C65-B808-BCDBB769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4DE-7458-442A-9C11-212A4AAB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71D-1886-462A-9797-136C8480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E955-44DF-4675-B530-C23D04C6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34EC-7257-47BA-95A1-B832E39B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007E-2D33-49CE-B15F-0A1CEED6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1514-310B-4006-9B00-FFC60729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354F-7311-4FB6-9AFB-B23E80E3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A148-64FA-4BC1-A02D-A681B97B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6C61-4E77-4933-BECB-13E03D76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890-4808-401A-B2F5-713ED7C4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73D7-4AC2-403E-88E2-D339CE30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3EED-0D88-478A-94B5-EBD37EA5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8ED1-34C5-4719-AA4C-69C2E5B8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37E9-CCD5-4605-AB1F-CF3E146F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994E-C622-442A-9C07-98935946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A76-60C2-4957-8FA6-DC4C93EC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735-37F4-4EBA-BB63-F165DEA0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711-9896-45B3-8CA1-1188B814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7D2-169D-411A-A9DB-CD937812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D60-BD0A-4F57-8AB2-A5F3D96C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1EA-F234-4D9A-8DF8-4F611474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DFA-6FEC-4BB3-A1B8-CC1A3EF7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A5CD-1D8D-466F-AF99-A1A6FF5468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6896-B669-4C4D-B0A0-DF2D8E3DEF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Genome reannotation: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733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latino"/>
              </a:rPr>
              <a:t>Dealing with the atypical, the ambiguous, and the contrary</a:t>
            </a:r>
            <a:endParaRPr b="0" lang="en-US" sz="4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mments for validation flag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usual spli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intr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verlaps transpos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conventional translation star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ultiphase ex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icistron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annot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ategorized as problematic/provision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d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 only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gene fragment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s capture of the ORF without condoning the gene mod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39116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transcrip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 transcrip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; distinguish between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relative to cDNA length (stops throughout; no long ORF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(previous case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138240"/>
            <a:ext cx="84582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Release 3.2 contributor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Kathy Campbel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ynn Crosb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everley Matthew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ndy Schroed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rian Bettencour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Yanmei Hu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yla Bayraktarogl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avel Hradeck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Gillian Millbur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ima Misr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hris Smi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leanor Whitfiel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eili Zh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inglei Zho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Annotated, but…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transcript classifi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be exclud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learly flagg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spect cDNA: possible unspliced intron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ranscript confidence ratings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ata typ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358720"/>
            <a:ext cx="784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NA data (complete/partial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homology/protein domain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lagg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 system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Yes/no indication for each different level of supporting data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lexible and open-end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an be dense and nuanc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Users can easily set different combinations of criteria for bulk data se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DNA and EST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structure support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TRs support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full-length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partial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overlaps cDNA(s) or EST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upporting protein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Homologous protei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High scoring of similar leng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ss simila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Indication of taxonomic range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plete protein domain(s) identifi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cont.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(s)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: [CV]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; possible gene fragmen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uncated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pseudogen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open -ended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xperimental determination of 5’ en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orther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RFeome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icroarray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 situ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ealing with the messy o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 provisional/problematic annota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inimize biases of current knowledg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exclude from rigorous data se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 and categorize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ld into a transcript rating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vidence tallying syste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Bottom li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nnotate generousl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riteria should not be too stringen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bel the ambiguous and atypic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efine a “problematic” categor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se a CV to describ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vise a confidence-rating system or an evidence tally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17360"/>
            <a:ext cx="838224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1T20:07:26Z</dcterms:created>
  <dc:creator>William M. Gelbart</dc:creator>
  <dc:description/>
  <dc:language>en-US</dc:language>
  <cp:lastModifiedBy>William M. Gelbart</cp:lastModifiedBy>
  <dcterms:modified xsi:type="dcterms:W3CDTF">1970-01-14T13:55:46Z</dcterms:modified>
  <cp:revision>13</cp:revision>
  <dc:subject/>
  <dc:title>Drosophila reannotation: Lessons learned</dc:title>
</cp:coreProperties>
</file>